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158-76F8-48FA-AB3E-DE9143C9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FDE-06B7-4CC5-9EF1-90AA82A8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C03-A957-406F-A7DC-E9035FC0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055-C3AB-4AD7-B5B1-B67CF0D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082-4D7D-40D1-A820-AC94D720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F4DE-D33F-4B74-8F06-6C20148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C06-3D0D-426F-8604-2810BB1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01F1-82B9-43B0-ACA4-F6B92D6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070-0B13-4EF3-8E02-DE9D590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B93-BC06-40EA-B784-408C6273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665E-2E0D-47F8-9615-3D5DF0AC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6A9-F16F-4050-BFCE-C643A7A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D1D-9D6C-4744-9184-A7FF415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2B36-17C9-4DB8-8790-CF7AE89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481-BA08-4EEC-B223-5782881B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864-A67C-45FC-88E7-06F32B82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6C2-4C8A-4EF8-B214-4D1BBFB7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C1F-C3B8-43BA-BF78-B74F72F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689-4351-4C94-8325-755A5CC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38F-8043-457F-831D-C4BD3A29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36C-16D7-4C76-BC00-7D5DC8B4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1F3-EB8E-4B23-8663-79FCB0B3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F82-0D4F-4A33-9941-7DCC163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2B7-54CB-407F-889F-0AFB883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E0A-FEE5-42E2-9EA0-90E031D984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986-4343-40BE-BDCD-91E9079B2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aching.com/KeyPals/" TargetMode="External"/><Relationship Id="rId2" Type="http://schemas.openxmlformats.org/officeDocument/2006/relationships/hyperlink" Target="http://www.epals.com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5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round the World with Caldecot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04960" y="24382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in conjunction with Indiana D.O.E. through the Information Literacy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decott Stor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MVC-003F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de level and Content Standards Address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s 1 –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 Arts and Ge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.A. Standard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Studies  Standard 3  Geogra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Literacy Standard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 Objectiv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students to Caldecott Medal books and learn why these books have received the ho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iarize students with the location of the Caldecott Medal books in the media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recreational reading to the students during formative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en to and enjoy a story time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location of various countries on world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with key-pals from other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decott Medal books  are highlighted in this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is linked to Indiana Academic Standar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uzzle5"/>
          <p:cNvSpPr/>
          <p:nvPr/>
        </p:nvSpPr>
        <p:spPr>
          <a:xfrm>
            <a:off x="6019920" y="4327560"/>
            <a:ext cx="1600200" cy="12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-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3"/>
          <p:cNvSpPr/>
          <p:nvPr/>
        </p:nvSpPr>
        <p:spPr>
          <a:xfrm>
            <a:off x="6294600" y="5081760"/>
            <a:ext cx="102060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decot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ll map with countries mark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MVC-152F" descr=""/>
          <p:cNvPicPr/>
          <p:nvPr/>
        </p:nvPicPr>
        <p:blipFill>
          <a:blip r:embed="rId1"/>
          <a:stretch/>
        </p:blipFill>
        <p:spPr>
          <a:xfrm>
            <a:off x="533520" y="1774800"/>
            <a:ext cx="7848360" cy="43974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decott Post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MVC-159F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to Get More 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decott wall po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a-bound 1-800-637-65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la.org/Content/NavigationMenu/ALSC/Awards_and_Scholarships1/Literary_and_Related_Awards/Caldecott_Medal/Caldecott_Medal_Winners,_1938-Present/Caldecott_Medal_Winners,_1938-Present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yahooligans.com/Around_the_World/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unsite.berkeley.edu/KidsClick!/midcou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P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websites for teachers and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Pals Cl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teaching.com/KeyPal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als Classroom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www.epals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P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MVC-004F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7:56:39Z</dcterms:created>
  <dc:creator>MSD of Shakamak</dc:creator>
  <dc:description/>
  <dc:language>en-US</dc:language>
  <cp:lastModifiedBy>MSD of Shakamak</cp:lastModifiedBy>
  <dcterms:modified xsi:type="dcterms:W3CDTF">2003-05-16T18:45:17Z</dcterms:modified>
  <cp:revision>18</cp:revision>
  <dc:subject/>
  <dc:title>Training</dc:title>
</cp:coreProperties>
</file>